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25F-7A50-4875-8EF0-F8591F6A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5DA-8A95-4623-B731-485B26E1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696-1C29-4CD8-B211-4A4C8452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ED6-7A71-4799-A179-83A5829E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63A9-05C9-458B-BCE1-268D12C7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A717-BFA3-4914-839C-A5D371A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612-B9D9-4485-9D39-D2C6EE9C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EBAA-DB92-4EEF-9B8A-288D9CF2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EEFF-BAD1-4F74-B7B3-E0C43C5F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6527-DFF0-4BA0-9138-877FC4AD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777D-0DE7-4C6C-83FD-BB89217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D3C-001E-4CB8-B1C3-F62B56D3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B202-675A-4391-96A1-30261AEC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ACE-FC1B-46B9-9C9A-2E46371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BA18-4CD1-4459-9475-6115147B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0C58-BCB9-4571-94EB-CDCE3FD3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6483-A1C8-412F-B374-B0777413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D44-0ECF-4631-9FDC-50786606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04E-996C-41D4-9B1B-B4550DD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3AE-35B1-484D-A293-0A8C18A3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A98-E868-484E-8721-5D4947CB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1A1-EF1A-49CF-A848-574E90A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E58-57EA-4E1E-A91F-82F09DE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1BF-F24E-486B-B8AE-82FCF9F2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EB64-54E0-433B-9582-3CC06146C8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4585-27A7-4D9C-83B3-2CFA6EE9C01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mous Peop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Stephanie Moscaritol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ena Gomez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82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la es Selena Gomez. Selena es morena, linda, y simpatica. No es rubia, fea, o bajo. Ella es americana. Selena es ambicios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1941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iall Hor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es Niall Horan. Niall es rubia, guapo, y comica. No es morena, feo, o serio. Naill es irlandés. El 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2718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uis Tomlin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 es Louis Tomlinson. Louis es morena, comica, y ambisioso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5:38:19Z</dcterms:created>
  <dc:creator>moscaritoloste</dc:creator>
  <dc:description/>
  <dc:language>en-US</dc:language>
  <cp:lastModifiedBy>moscaritoloste</cp:lastModifiedBy>
  <dcterms:modified xsi:type="dcterms:W3CDTF">2013-10-09T16:11:24Z</dcterms:modified>
  <cp:revision>2</cp:revision>
  <dc:subject/>
  <dc:title>Slide 1</dc:title>
</cp:coreProperties>
</file>